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81CB59-7D0E-4D66-9346-A39D78C6B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C75F5-E890-4A74-A1BA-854188C9E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26AC6-DED6-49DF-B615-6ADBFCD9F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04F54-24AD-4783-844C-49DC81B8A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8D0FB-F550-4B7F-A802-FD3490EB3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FD17C-A323-4C56-B2F4-D444F5AC8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9BB86-509A-42F7-9572-EBB9F580F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B5145-30AB-4BF9-86D6-537D087EC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814C9-A060-4B45-B7FC-1DF45FDE9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FBCC-CF5B-49E9-B280-82A321675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892F-DB48-4C37-B3DE-9CE8BF2DC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41E6F-86E1-4379-A9E8-CE6C85C841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974C9-49B2-4A2D-90B3-9F2424E3D09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 VE KÖKEN BAKIMINDAN DİLLER</a:t>
            </a:r>
            <a:br>
              <a:rPr sz="3600"/>
            </a:br>
            <a:r>
              <a:rPr b="1" lang="tr-TR" sz="3600" spc="-1" strike="noStrike">
                <a:solidFill>
                  <a:srgbClr val="000000"/>
                </a:solidFill>
                <a:latin typeface="Times New Roman"/>
                <a:ea typeface="Times New Roman"/>
              </a:rPr>
              <a:t>TÜRKÇE’NİN DÜNYA DİLLERİ ARASINDAKİ YERİ</a:t>
            </a:r>
            <a:endParaRPr b="0" lang="en-US" sz="3600" spc="-1" strike="noStrike">
              <a:solidFill>
                <a:srgbClr val="000000"/>
              </a:solidFill>
              <a:latin typeface="Calibri"/>
            </a:endParaRPr>
          </a:p>
        </p:txBody>
      </p:sp>
      <p:sp>
        <p:nvSpPr>
          <p:cNvPr id="42" name=""/>
          <p:cNvSpPr txBox="1"/>
          <p:nvPr/>
        </p:nvSpPr>
        <p:spPr>
          <a:xfrm>
            <a:off x="971280" y="2349360"/>
            <a:ext cx="7497720" cy="41515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ünyada ne kadar dil va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bu güne kadar kaç dil konuşulduğunu belirlemek için çeşitli araştırmalar yapılmıştır. Bu araştırmalarda üzerinde ittifak edilen kesin bir sayıya ulaşılamamıştır.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nların sonuçları incelendiğinde 2700 ila 5000 arasında değişen sayıda dilin varlığından söz edilmektedi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68360" y="620280"/>
            <a:ext cx="8229600" cy="550548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Romen Dilleri</a:t>
            </a:r>
            <a:r>
              <a:rPr b="0" lang="tr-TR" sz="2800" spc="-1" strike="noStrike">
                <a:solidFill>
                  <a:srgbClr val="000000"/>
                </a:solidFill>
                <a:latin typeface="Times New Roman"/>
                <a:ea typeface="Times New Roman"/>
              </a:rPr>
              <a:t>: Bu kolun ana dili Latincedir. Fransızca, İspanyolca, Portekizce, İtalyanca ve Rumence  bu dil grubundad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Germen Dilleri: </a:t>
            </a:r>
            <a:r>
              <a:rPr b="0" lang="tr-TR" sz="2800" spc="-1" strike="noStrike">
                <a:solidFill>
                  <a:srgbClr val="000000"/>
                </a:solidFill>
                <a:latin typeface="Times New Roman"/>
                <a:ea typeface="Times New Roman"/>
              </a:rPr>
              <a:t>Almanc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lemenkçe, İngilizce ve İskandinav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Slav Dilleri: </a:t>
            </a:r>
            <a:r>
              <a:rPr b="0" lang="tr-TR" sz="2800" spc="-1" strike="noStrike">
                <a:solidFill>
                  <a:srgbClr val="000000"/>
                </a:solidFill>
                <a:latin typeface="Times New Roman"/>
                <a:ea typeface="Times New Roman"/>
              </a:rPr>
              <a:t>Rusça, Bulgarca, Sırpça, Çekçe, Slovakça, Hırvatça, Lehçe ve Boşnakça gibi   diller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ç-Diğer Diller: </a:t>
            </a:r>
            <a:r>
              <a:rPr b="0" lang="tr-TR" sz="2800" spc="-1" strike="noStrike">
                <a:solidFill>
                  <a:srgbClr val="000000"/>
                </a:solidFill>
                <a:latin typeface="Times New Roman"/>
                <a:ea typeface="Times New Roman"/>
              </a:rPr>
              <a:t>Yunanca, Arnavutça, Keltçe, Litvanca gibi diller de bu grupta değerlendirileb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AMİ DİLLERİ AİLESİ</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 Batı Asya’dan Kuzey Doğu Afrika’ya kadar uzanan coğrafyada konuşulan dillerdir. Hami Sami dilleri de  den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rapça, İbranice, Akadca, Habeşce, Süryanice gibi diller bu grubun başlıca dil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ANTU DİLLERİ AİLESİ</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frika’nın orta ve güney kesiminde konuşulan dillerdir. Swahili dili, Kongoca, Gurca, Pölce grubun başlıca dillerinden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diller içinde en yaygın olanı Kenya, Uganda, Tanzanya ve Kongo’da konuşulan Swahili dilidi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İN TİBET DİLLERİ AİLESİ</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doğu Asya’da konuşulan dillerdir. Çince, Tibetçe, Siyamca, Birmanca gibi diller bu grupta yer al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5 milyar konuşuruyla Çince dünyanın en çok konuşulan dili durumunda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FKAS DİLLERİ AİLESİ</a:t>
            </a:r>
            <a:endParaRPr b="0" lang="en-US" sz="2800" spc="-1" strike="noStrike">
              <a:solidFill>
                <a:srgbClr val="000000"/>
              </a:solidFill>
              <a:latin typeface="Calibri"/>
            </a:endParaRPr>
          </a:p>
        </p:txBody>
      </p:sp>
      <p:sp>
        <p:nvSpPr>
          <p:cNvPr id="64" name=""/>
          <p:cNvSpPr txBox="1"/>
          <p:nvPr/>
        </p:nvSpPr>
        <p:spPr>
          <a:xfrm>
            <a:off x="457200" y="1268280"/>
            <a:ext cx="8229600" cy="485784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fkasya, etnik açıdan dünyanın en karmaşık bölgesidi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üçük bir coğrafyada 50-60 etnik grup yaşamakta ve kendi dillerini konuşmaktadı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raçay-Balkarca, Azerice, Osetçe, Talişçe, Ermenice, Kalmukça, Gürcüce, Çerkezce, İnguşça, Abazca, Lezgice bu bölgede konuşulan dillerdendi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3520" y="475920"/>
            <a:ext cx="8286480" cy="5977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 ALTAY DİLLERİ AİLESİ </a:t>
            </a:r>
            <a:r>
              <a:rPr b="0" lang="tr-TR" sz="2800" spc="-1" strike="noStrike">
                <a:solidFill>
                  <a:srgbClr val="7030a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000000"/>
                </a:solidFill>
                <a:latin typeface="Times New Roman"/>
                <a:ea typeface="Times New Roman"/>
              </a:rPr>
              <a:t>Ural ve Altay dillerinin köken birliği görüşü, 18.yüzyıl başlarından itibaren tartışma konusu olmuş, bilimsel çalışmaların ilerlemesiyle bu iki grubun birbiriyle akraba olmadığı ortaya çıkmıştır.</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i="1" lang="tr-TR" sz="3000" spc="-1" strike="noStrike">
                <a:solidFill>
                  <a:srgbClr val="000000"/>
                </a:solidFill>
                <a:latin typeface="Times New Roman"/>
                <a:ea typeface="Times New Roman"/>
              </a:rPr>
              <a:t>Fince, Macarca, Samoyetçe gibi dilleri içine alan Ural dilleriyle Türkçenin herhangi bir şekilde akrabalığı söz konusu değildir. </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7030a0"/>
                </a:solidFill>
                <a:latin typeface="Times New Roman"/>
                <a:ea typeface="Times New Roman"/>
              </a:rPr>
              <a:t>*Bu nedenle Ural-Altay dillerini tek bir dil ailesi olarak değil, Ural  ve Altay dilleri ailesi olarak ayrı ayrı ele almak daha doğru olacaktır.</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DİL AİLESİ</a:t>
            </a:r>
            <a:endParaRPr b="0" lang="en-US" sz="2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ndi içinde Fin Ugor Kolu ve Samoyet Kolu olarak iki kola ayrılır:</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Fin Ugor: </a:t>
            </a:r>
            <a:r>
              <a:rPr b="0" lang="tr-TR" sz="2800" spc="-1" strike="noStrike">
                <a:solidFill>
                  <a:srgbClr val="000000"/>
                </a:solidFill>
                <a:latin typeface="Times New Roman"/>
                <a:ea typeface="Times New Roman"/>
              </a:rPr>
              <a:t>Fince, Macarca, Lapca, Ugorca</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Samoyet: </a:t>
            </a:r>
            <a:r>
              <a:rPr b="0" lang="tr-TR" sz="2800" spc="-1" strike="noStrike">
                <a:solidFill>
                  <a:srgbClr val="000000"/>
                </a:solidFill>
                <a:latin typeface="Times New Roman"/>
                <a:ea typeface="Times New Roman"/>
              </a:rPr>
              <a:t>Samoyet dilleri bu grupta yer al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LTAY DİL AİLESİ</a:t>
            </a:r>
            <a:endParaRPr b="0" lang="en-US" sz="2800" spc="-1" strike="noStrike">
              <a:solidFill>
                <a:srgbClr val="000000"/>
              </a:solidFill>
              <a:latin typeface="Calibri"/>
            </a:endParaRPr>
          </a:p>
        </p:txBody>
      </p:sp>
      <p:sp>
        <p:nvSpPr>
          <p:cNvPr id="69" name=""/>
          <p:cNvSpPr txBox="1"/>
          <p:nvPr/>
        </p:nvSpPr>
        <p:spPr>
          <a:xfrm>
            <a:off x="468000" y="836280"/>
            <a:ext cx="8258040" cy="5761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nceleri Ural ve Altay dillerinin kökeninin bir olduğu savunulmuş ancak daha sonra yapılan araştırmalar bu iki grubun akraba olmadığını ortaya çıkarmıştı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Orta Asya’daki Altay dağları ve çevresi bu dilleri konuşan toplulukların anavatanı kabul ed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rupta Türkçe, Moğolca, Mançu Tunguzca, Korece, Japonca bulunu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Türkçe’nin Dünya Dilleri Arasındaki Yeri</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Türkçe, Altay dilleri ailesine mensup, Moğolca ile yakın akrabalık gösteren sondan eklemeli bir dildir.</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TAY DİLLERİNİN ORTAK ÖZELLİKLERİ</a:t>
            </a:r>
            <a:endParaRPr b="0" lang="en-US" sz="2800" spc="-1" strike="noStrike">
              <a:solidFill>
                <a:srgbClr val="000000"/>
              </a:solidFill>
              <a:latin typeface="Calibri"/>
            </a:endParaRPr>
          </a:p>
        </p:txBody>
      </p:sp>
      <p:sp>
        <p:nvSpPr>
          <p:cNvPr id="71" name=""/>
          <p:cNvSpPr txBox="1"/>
          <p:nvPr/>
        </p:nvSpPr>
        <p:spPr>
          <a:xfrm>
            <a:off x="250920" y="1052280"/>
            <a:ext cx="8642160" cy="5616360"/>
          </a:xfrm>
          <a:prstGeom prst="rect">
            <a:avLst/>
          </a:prstGeom>
          <a:noFill/>
          <a:ln w="0">
            <a:noFill/>
          </a:ln>
        </p:spPr>
        <p:txBody>
          <a:bodyPr anchor="t">
            <a:norm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ltay dillerinde görülen ortak noktaları şöyle sıralayabiliri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klemeli dillerdir. Kelime yapım ve çekiminde son ek kullanılırken köklerde değişiklik ol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Özne yüklemden önce gelir ve genellikle başta bulunu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rillik-dişilik ayrımı yoktu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Ünlü uyumu aranı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Kelime başlarında l,r,n ünsüzleri bulun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ıfat tamlamalarında sıfatlar isimlerden önce gelir. beş kardeş..</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rtikel (harf-i tarif) bulunmaz. El-cevap, the book gibi…</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İsim çekiminde iyelik ekleri kullanılı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ayı sıfatlarından sonra çokluk eki kullanılmaz. Örneğin, On elma…</a:t>
            </a:r>
            <a:endParaRPr b="0" lang="en-US" sz="25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USTRONEZYA DİLLERİ AİLESİ</a:t>
            </a:r>
            <a:endParaRPr b="0" lang="en-US" sz="28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onez Malay dilleri, Cava dili, Tagolog veya Pilipino, Malagasy dilleri bu dil ailesinin en önemli dilleri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71280" y="691920"/>
            <a:ext cx="7497720" cy="580860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illerin bir kısmı küçük kabile dilleri, bir kısmı da büyük milletlerin dilleridir. Bunlardan 118’i devlet dili olma niteliğine sahiptir. Türkçemiz de bunlardan biridir.</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insanlar arasında anlaşma aracı olarak kullanıldığını gördüğümüz diller birbirlerinden ayrı ve bağımsız olmalarına rağmen aralarında bazı yakınlıklar vardır. Bu yakınlıkların bir kısmı herkesin fark edebileceği bir belirginliktedir. Bir kısmı ise ancak dilbilimcilerce görülebilmektedir.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arasındaki yakınlıkları iki noktada toplayabiliriz:</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A. Yapı bakımından,</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B. Köken (menşe) bakımınd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ĞERLERİ</a:t>
            </a:r>
            <a:endParaRPr b="0" lang="en-US" sz="28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merikadaki yerlilerin dillerini, Eskimo Astek dillerini bu grupta say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99CB-299F-4D5D-8448-88EED11D979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71280" y="1125360"/>
            <a:ext cx="7497720" cy="53755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API BAKIMINDAN DİLLER</a:t>
            </a:r>
            <a:endParaRPr b="0" lang="en-US" sz="28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kullanılan diller, aralarındaki ses, biçim, yapı ve cümle kuruluşları bakımından benzerlikler dikkate alınarak sınıflandırmaya tabi tutulmuştur. </a:t>
            </a:r>
            <a:r>
              <a:rPr b="0" lang="tr-TR" sz="3000" spc="-1" strike="noStrike">
                <a:solidFill>
                  <a:srgbClr val="000000"/>
                </a:solidFill>
                <a:latin typeface="Times New Roman"/>
                <a:ea typeface="Times New Roman"/>
              </a:rPr>
              <a:t>Yapı bakımından diller şu şekilde sınıflandırılmıştır:</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1. Tek heceli diller (Yalınlayan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2. Eklemeli diller   (Bağlantılı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3. Çekimli diller     (Bükümlü dill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680"/>
            <a:ext cx="746748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HECELİ DİLLER</a:t>
            </a:r>
            <a:endParaRPr b="0" lang="en-US" sz="2800" spc="-1" strike="noStrike">
              <a:solidFill>
                <a:srgbClr val="000000"/>
              </a:solidFill>
              <a:latin typeface="Calibri"/>
            </a:endParaRPr>
          </a:p>
        </p:txBody>
      </p:sp>
      <p:sp>
        <p:nvSpPr>
          <p:cNvPr id="46" name=""/>
          <p:cNvSpPr txBox="1"/>
          <p:nvPr/>
        </p:nvSpPr>
        <p:spPr>
          <a:xfrm>
            <a:off x="456840" y="1356840"/>
            <a:ext cx="7467480" cy="511668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dillerde her kelime tek hecedir. Cümleyi oluşturan kelimeler ek almazlar ve şekil değiştirmezler. Çince ve Tibetçe bu gruptaki dillerdendir. Cümlenin anlamı genellikle kelime sırasından ve vurgu  tonlamasından anlaşılır. Örnek:</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 </a:t>
            </a:r>
            <a:r>
              <a:rPr b="0" lang="tr-TR" sz="2800" spc="-1" strike="noStrike">
                <a:solidFill>
                  <a:srgbClr val="000000"/>
                </a:solidFill>
                <a:latin typeface="Times New Roman"/>
              </a:rPr>
              <a:t>yazıyoru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bu şiye : </a:t>
            </a:r>
            <a:r>
              <a:rPr b="0" lang="tr-TR" sz="2800" spc="-1" strike="noStrike">
                <a:solidFill>
                  <a:srgbClr val="000000"/>
                </a:solidFill>
                <a:latin typeface="Times New Roman"/>
              </a:rPr>
              <a:t>yazmıyorum, yazma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lı : </a:t>
            </a:r>
            <a:r>
              <a:rPr b="0" lang="tr-TR" sz="2800" spc="-1" strike="noStrike">
                <a:solidFill>
                  <a:srgbClr val="000000"/>
                </a:solidFill>
                <a:latin typeface="Times New Roman"/>
              </a:rPr>
              <a:t>yazdı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örülüyor ki, Türkçedeki eklerin yerini , bu dillerde kelimeler a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120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LEMELİ DİLLER</a:t>
            </a:r>
            <a:endParaRPr b="0" lang="en-US" sz="28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tür dillerde tek veya çok heceli kelime kökleri ile ekler vardır. Yeni kelimeler ya da kelimelerin çekimli halleri yapılırken köklere ekler getirilir. Bu ekleme sırasında kökler değişmez.</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i="1" lang="tr-TR" sz="2800" spc="-1" strike="noStrike">
                <a:solidFill>
                  <a:srgbClr val="000000"/>
                </a:solidFill>
                <a:latin typeface="Times New Roman"/>
                <a:ea typeface="Times New Roman"/>
              </a:rPr>
              <a:t>Türkçe, Macarca, Moğolca, Japonca, Korece </a:t>
            </a:r>
            <a:r>
              <a:rPr b="0" lang="tr-TR" sz="2800" spc="-1" strike="noStrike">
                <a:solidFill>
                  <a:srgbClr val="000000"/>
                </a:solidFill>
                <a:latin typeface="Times New Roman"/>
                <a:ea typeface="Times New Roman"/>
              </a:rPr>
              <a:t>gibi diller eklemeli dillerdendir.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ku-l-um-u   sev-(i)yor-um, göz-lük-çü-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746748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EKİMLİ</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LER</a:t>
            </a:r>
            <a:endParaRPr b="0" lang="en-US" sz="2800" spc="-1" strike="noStrike">
              <a:solidFill>
                <a:srgbClr val="000000"/>
              </a:solidFill>
              <a:latin typeface="Calibri"/>
            </a:endParaRPr>
          </a:p>
        </p:txBody>
      </p:sp>
      <p:sp>
        <p:nvSpPr>
          <p:cNvPr id="50" name=""/>
          <p:cNvSpPr txBox="1"/>
          <p:nvPr/>
        </p:nvSpPr>
        <p:spPr>
          <a:xfrm>
            <a:off x="456840" y="1214280"/>
            <a:ext cx="7467480" cy="5259600"/>
          </a:xfrm>
          <a:prstGeom prst="rect">
            <a:avLst/>
          </a:prstGeom>
          <a:noFill/>
          <a:ln w="0">
            <a:noFill/>
          </a:ln>
        </p:spPr>
        <p:txBody>
          <a:bodyPr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Çekimli dillerde tek veya çok heceli kökler ve bir takım ekler vardır. Yeni kelime yapımında ve çekim sırasında çok defa köklerde değişiklikler olur. Hatta bazı dillerde bu değişiklik kökü tanınmaz hale getirebilir. Hint Avrupa ve Sami dilleri bu gruba girer.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Arapça):</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a:le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di (geçm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yequ:lü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r (gen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ul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 (emir)</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ers, medrese, müderris, tedrisat…</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İngilizce): Drink, drank, drunk (içmek)</a:t>
            </a:r>
            <a:r>
              <a:rPr b="0" i="1" lang="tr-TR" sz="2500" spc="-1" strike="noStrike">
                <a:solidFill>
                  <a:srgbClr val="000000"/>
                </a:solidFill>
                <a:latin typeface="Calibri"/>
              </a:rPr>
              <a:t>	</a:t>
            </a:r>
            <a:r>
              <a:rPr b="0" lang="tr-TR" sz="2800" spc="-1" strike="noStrike">
                <a:solidFill>
                  <a:srgbClr val="000000"/>
                </a:solidFill>
                <a:latin typeface="Times New Roman"/>
                <a:ea typeface="Times New Roman"/>
              </a:rPr>
              <a:t>go - went- gone (gitmek)… gibi.</a:t>
            </a:r>
            <a:endParaRPr b="0" lang="en-US" sz="28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o – did -do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YNAK (MENŞE) BAKIMINDAN DİLLER</a:t>
            </a:r>
            <a:endParaRPr b="0" lang="en-US" sz="2800" spc="-1" strike="noStrike">
              <a:solidFill>
                <a:srgbClr val="000000"/>
              </a:solidFill>
              <a:latin typeface="Calibri"/>
            </a:endParaRPr>
          </a:p>
        </p:txBody>
      </p:sp>
      <p:sp>
        <p:nvSpPr>
          <p:cNvPr id="52" name=""/>
          <p:cNvSpPr txBox="1"/>
          <p:nvPr/>
        </p:nvSpPr>
        <p:spPr>
          <a:xfrm>
            <a:off x="457200" y="1600200"/>
            <a:ext cx="7972560" cy="48736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öken bakımından birbirine yakın, aynı kaynaktan gelen diller dil ailelerini oluşturur. Aynı dil ailesinden  gelen diller arasındaki akrabalık  derecesi geldikleri kola göre farklı olabilir. Örneğin İngilizce ile Farsça arasındaki akrabalık bağı uzakken;  İngilizce ile Almanca arasındaki akrabalık bağı daha yakındır. </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713880"/>
            <a:ext cx="7467480" cy="57596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ki dil ailelerini şu şekilde sınıflandırabiliriz:</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Hint Avrup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Sami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Bantu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4. Çin Tibet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5. Kafkas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6. Ural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7. Altay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 Avustronezy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9. Bunların dışında kalanlar</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İNT AVRUPA DİLLERİ AİLESİ</a:t>
            </a:r>
            <a:endParaRPr b="0" lang="en-US" sz="2800" spc="-1" strike="noStrike">
              <a:solidFill>
                <a:srgbClr val="000000"/>
              </a:solidFill>
              <a:latin typeface="Calibri"/>
            </a:endParaRPr>
          </a:p>
        </p:txBody>
      </p:sp>
      <p:sp>
        <p:nvSpPr>
          <p:cNvPr id="55" name=""/>
          <p:cNvSpPr txBox="1"/>
          <p:nvPr/>
        </p:nvSpPr>
        <p:spPr>
          <a:xfrm>
            <a:off x="456840" y="1125000"/>
            <a:ext cx="8186760" cy="547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rupa’nın büyük bölümünde, Asya, Amerika ve bazı Afrika ülkelerinde konuşulmaktadır. Macarca ve Fince dışındaki Avrupa dilleri, Farsça ve Hindistan’daki birçok dil bu gruba girer. Dünyanın en büyük dil ailesidir.</a:t>
            </a:r>
            <a:r>
              <a:rPr b="0" lang="tr-TR" sz="2800" spc="-1" strike="noStrike">
                <a:solidFill>
                  <a:srgbClr val="000000"/>
                </a:solidFill>
                <a:latin typeface="Calibri"/>
              </a:rPr>
              <a:t> </a:t>
            </a:r>
            <a:r>
              <a:rPr b="0" lang="tr-TR" sz="2800" spc="-1" strike="noStrike">
                <a:solidFill>
                  <a:srgbClr val="000000"/>
                </a:solidFill>
                <a:latin typeface="Times New Roman"/>
                <a:ea typeface="Times New Roman"/>
              </a:rPr>
              <a:t>İki kolu v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Asya Kolu</a:t>
            </a:r>
            <a:r>
              <a:rPr b="0" lang="tr-TR" sz="2800" spc="-1" strike="noStrike">
                <a:solidFill>
                  <a:srgbClr val="000000"/>
                </a:solidFill>
                <a:latin typeface="Times New Roman"/>
                <a:ea typeface="Times New Roman"/>
              </a:rPr>
              <a:t>: Hintçe, Farsça, Urduca, Ermenice bu kola gire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Avrupa Kolu</a:t>
            </a:r>
            <a:r>
              <a:rPr b="0" lang="tr-TR" sz="2800" spc="-1" strike="noStrike">
                <a:solidFill>
                  <a:srgbClr val="000000"/>
                </a:solidFill>
                <a:latin typeface="Times New Roman"/>
                <a:ea typeface="Times New Roman"/>
              </a:rPr>
              <a:t>: Fince ve Macarca dışındaki Avrupa’da konuşulan diğer dilleri bu gruba sok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vrupa kolu, </a:t>
            </a:r>
            <a:r>
              <a:rPr b="0" lang="tr-TR" sz="2800" spc="-1" strike="noStrike">
                <a:solidFill>
                  <a:srgbClr val="00b0f0"/>
                </a:solidFill>
                <a:latin typeface="Times New Roman"/>
                <a:ea typeface="Times New Roman"/>
              </a:rPr>
              <a:t>Romen, Germen, Slav ve diğer </a:t>
            </a:r>
            <a:r>
              <a:rPr b="0" lang="tr-TR" sz="2800" spc="-1" strike="noStrike">
                <a:solidFill>
                  <a:srgbClr val="000000"/>
                </a:solidFill>
                <a:latin typeface="Times New Roman"/>
                <a:ea typeface="Times New Roman"/>
              </a:rPr>
              <a:t>diller olmak üzere dört bölümde ele alına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5:24:44Z</dcterms:created>
  <dc:creator>serkanhamit</dc:creator>
  <dc:description/>
  <dc:language>en-US</dc:language>
  <cp:lastModifiedBy>BURAK</cp:lastModifiedBy>
  <dcterms:modified xsi:type="dcterms:W3CDTF">2014-09-29T15:54:33Z</dcterms:modified>
  <cp:revision>127</cp:revision>
  <dc:subject/>
  <dc:title>TEMEL KAVRAMLAR</dc:title>
</cp:coreProperties>
</file>